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260D6-912E-43E3-989F-09A4677F3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247B0-1946-4B03-88D3-A4EE38B5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6393E-E481-4F90-B68F-602510F3E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4B134-784B-49B0-99D4-32F1DF3B5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3B76-13D6-48E6-A082-D32146B0B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6CBE-7316-4555-9146-AF8A7DA9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81AF5-6481-4579-BD3F-3A017375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D0D7C-0E12-4A3E-B9EF-0B6DAEF1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9BAD-6105-4825-A582-C7B34206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6D95-C066-45F1-9B98-CC31DED5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AD784-B5B0-4F6E-968F-61AEEF42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C7B49-AAF1-48C9-B9C3-343D975A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2700-948B-4C07-864D-A73453F7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1E31C-7155-4BF2-B666-927E5E8D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0435-356D-4508-B71D-9EE33578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0741-161E-43A0-A821-4086B8D2D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9577-4A85-459B-8F47-8424777A9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7809B-3B85-4E86-81C9-1604AAF0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BE555-B32F-4AD7-9D56-AEE5AA07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1EDAC-4A6D-498D-B5A2-54AB5779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4884D-5A75-4A74-8B8F-E62D14FB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F6C90-303A-40C0-93EC-FB9FC3C1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1CEDE-F20B-440B-93E2-BB6EC159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7345B-E4AF-42AB-8F79-2A4C4568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00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a8a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a8a4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a8a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a8a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1117-3250-4782-B8EE-13384F99338B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a8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a8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a8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00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a8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a8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a8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a8a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a8a4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a8a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a8a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DC64-1FF7-4D0D-A076-5DBAF46E35C0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00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ROJECT:</a:t>
            </a: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“ENTERTAINING MATH”</a:t>
            </a:r>
            <a:br>
              <a:rPr sz="2400"/>
            </a:br>
            <a:br>
              <a:rPr sz="24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INFANT SCHOOL 1° DIDATTIC CIRCLE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LEONARDO DA VINCI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TRAPANI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DIRIGENTE SCOLASTICO: DOTT. SSA ANNA MARIA CAMPO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FUNZIONE STRUMENTALE 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TECNOLOGIA ED INNOVAZIONE INS.: PIETRO CAMPO</a:t>
            </a:r>
            <a:br>
              <a:rPr sz="1600"/>
            </a:br>
            <a:br>
              <a:rPr sz="1600"/>
            </a:b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INSEGNANTE : FRANCESCA MINAUDO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GLI ALIMENTI E LA MATEMAT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00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MELOGRANO</a:t>
            </a:r>
            <a:br>
              <a:rPr sz="1800"/>
            </a:b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NTERO – META’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WHOLE - MIDD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10" descr="pen drive 3 073"/>
          <p:cNvPicPr/>
          <p:nvPr/>
        </p:nvPicPr>
        <p:blipFill>
          <a:blip r:embed="rId1"/>
          <a:stretch/>
        </p:blipFill>
        <p:spPr>
          <a:xfrm>
            <a:off x="243828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00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MELOGRANO</a:t>
            </a:r>
            <a:br>
              <a:rPr sz="1600"/>
            </a:b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DIVISIONE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DIVISION</a:t>
            </a:r>
            <a:br>
              <a:rPr sz="1600"/>
            </a:b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INTERO – META’ – QUATTRO QUARTI – OTTO QUAR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18" descr="pen drive 3 067"/>
          <p:cNvPicPr/>
          <p:nvPr/>
        </p:nvPicPr>
        <p:blipFill>
          <a:blip r:embed="rId1"/>
          <a:stretch/>
        </p:blipFill>
        <p:spPr>
          <a:xfrm>
            <a:off x="2070000" y="19810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0" descr="pen drive 3 078"/>
          <p:cNvPicPr/>
          <p:nvPr/>
        </p:nvPicPr>
        <p:blipFill>
          <a:blip r:embed="rId2"/>
          <a:stretch/>
        </p:blipFill>
        <p:spPr>
          <a:xfrm>
            <a:off x="2070000" y="411480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1" descr="pen drive 3 079"/>
          <p:cNvPicPr/>
          <p:nvPr/>
        </p:nvPicPr>
        <p:blipFill>
          <a:blip r:embed="rId3"/>
          <a:stretch/>
        </p:blipFill>
        <p:spPr>
          <a:xfrm>
            <a:off x="5257800" y="275256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00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UVA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GRAPES</a:t>
            </a:r>
            <a:br>
              <a:rPr sz="1600"/>
            </a:b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GRANDE – MEDIO – PICCOLO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BIG – MEDIUM - LITTL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7" descr="pen drive 3 074"/>
          <p:cNvPicPr/>
          <p:nvPr/>
        </p:nvPicPr>
        <p:blipFill>
          <a:blip r:embed="rId1"/>
          <a:stretch/>
        </p:blipFill>
        <p:spPr>
          <a:xfrm>
            <a:off x="243828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00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UVA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GRAPES</a:t>
            </a:r>
            <a:br>
              <a:rPr sz="1600"/>
            </a:b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GRANDE – PICCOLO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BIG - LITT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7" descr="pen drive 3 053"/>
          <p:cNvPicPr/>
          <p:nvPr/>
        </p:nvPicPr>
        <p:blipFill>
          <a:blip r:embed="rId1"/>
          <a:stretch/>
        </p:blipFill>
        <p:spPr>
          <a:xfrm>
            <a:off x="243828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00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UVA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GRAPES</a:t>
            </a:r>
            <a:br>
              <a:rPr sz="1600"/>
            </a:b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SOLIDO – LIQUIDO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SOLID - FLUI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10" descr="pen drive 3 075"/>
          <p:cNvPicPr/>
          <p:nvPr/>
        </p:nvPicPr>
        <p:blipFill>
          <a:blip r:embed="rId1"/>
          <a:stretch/>
        </p:blipFill>
        <p:spPr>
          <a:xfrm>
            <a:off x="243828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6:41:42Z</dcterms:created>
  <dc:creator>.</dc:creator>
  <dc:description/>
  <dc:language>en-US</dc:language>
  <cp:lastModifiedBy>Disanska</cp:lastModifiedBy>
  <dcterms:modified xsi:type="dcterms:W3CDTF">2011-12-30T17:05:40Z</dcterms:modified>
  <cp:revision>9</cp:revision>
  <dc:subject/>
  <dc:title>Progetto matematica</dc:title>
</cp:coreProperties>
</file>